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F6E-6A57-4939-B08F-4C18BF1B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98D-FE89-4201-B7C6-5023A7E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65E-E2C8-4ABD-8CE2-D3448B02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328-9C04-4A32-9328-3AB7A8B0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E909-0824-4F74-AF31-BB133C01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53C1-F573-4999-B9CB-596BAE1C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DB80-9241-4DC3-93F3-97620B2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94A2-AF09-4E5A-8FFE-43716FC9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B2B3-9375-4EB4-9F7D-AA54BBCC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8CCC-A585-4B81-B7F1-EADBE249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6E9-A6DF-4E77-96E2-F73EAFE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C17-4492-48BE-8C17-A22F1FBF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B36-2B05-4219-90FD-16DF66A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3A7-7BAA-4E95-A74D-0452AEA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8099-45E5-4FB5-9695-53958A1D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B0AE-DA3F-411B-8E4B-EA71A8DD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C323-B30C-463E-99C1-1FD97655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27E-DBC7-4D68-A78B-72A5A4E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D43-5991-4228-91D4-A34BB91A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901-7B37-42AD-92A3-717FA30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3D-6C25-4FDE-ABE9-B98422B5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8ED-BA0D-4F90-BC8E-9133D5F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19E-D4F2-451E-9677-294D4200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873-CF9E-454A-9FA8-6FDF9C4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4C9B-26A8-40C9-8220-E83F5A3F20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568-7C64-4635-9DC7-9727802B55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All the pla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David monte` Mcle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Popu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ll the members of one species in a particular ar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00240"/>
            <a:ext cx="754380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Commun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lgeri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All the different populations that live together in a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65600" y="3124080"/>
            <a:ext cx="39924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Ecosyst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The community of organisms that live in a particular area ,along with their nonliving surround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mic"/>
              </a:rPr>
              <a:t>Things in a popul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dog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l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bi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A group of sn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76720" y="4519440"/>
            <a:ext cx="3257280" cy="21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gs in a commu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cats and dogs living toge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ing that is in a ecosyst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ish in the water and plants and rocks in the 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45752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56:13Z</dcterms:created>
  <dc:creator>davidmclean</dc:creator>
  <dc:description/>
  <dc:language>en-US</dc:language>
  <cp:lastModifiedBy>LCS_user</cp:lastModifiedBy>
  <dcterms:modified xsi:type="dcterms:W3CDTF">2008-10-27T15:02:10Z</dcterms:modified>
  <cp:revision>7</cp:revision>
  <dc:subject/>
  <dc:title>Populations</dc:title>
</cp:coreProperties>
</file>